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669-F47C-4E57-BBCF-C435475B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281-8BD3-4CBD-8ED3-4886CA29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0F9-B50D-46D0-9AA9-7271A1F2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B43-1476-433A-982A-21183E2C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F5E-7066-4B4D-B91D-1295DA44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585-C3E4-4997-BB83-6BEC64D0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3ED-A680-4E8A-9A7C-03FDC4B1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DBBC-5BE8-4E02-8CD5-3FD2BEFE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E9B-B2E4-4B2A-9446-B909B210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875-9F4B-47E8-B241-AB269CC4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53A-3AE1-435A-AC97-5665CF0F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0A3-E671-42FA-B43E-7B07EAA6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8CD4-E56A-40DA-B027-A42314331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STEMA    DE    GLACI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 GLACIAR ES SÍMPLEMENTE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CUERPO   DE HIELO  QUE  FLUYE SOBRE LA  SUPERFICIE   DE TERREN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Y  QUE  CONSTA   DE    PRINCIPALMENTE DE NIEVE   RECRIST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GUAL  QUE EL SISTEMA FLUVIAL,   UN GLACIAR  ES  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ISTEMA ABIERT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 DONDE   EL AGUA  ENTRA  COMO  NIEVE,   QUE    SE  TRANSFORMA  E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HIELO POR COMPACTACIÓN Y RECRISTALIZACIÓ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MOVIMIENTO NO  ES   PERCEPTIBLE   A   SIMPLE   V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 EXISTENCIA  ESTÁ  ESTRECHAMENTE   RELACIONADO  CON  LAS VARIACIONES DEL CLIMA, Y  SE  FORMA  DÓNDE   LA CANTIDAD  DE NIEVE ACUMULADA CADA  AÑO ES MAYOR   QUE  LA  QUE  SE  FU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IPOS DE GLACIAR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  DE VALL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(FLUYEN HACIA ABAJO A TRAVÉS DE VALLES,  COMO LAS  CORRIENTES DE AGU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DE PIE DE MON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SITUADOS SOBRE UNA PLANICIE  EN  LA  BASE  DE  UNA MONTAÑ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CASQUE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O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NTO DE HIEL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GLACIAR   DE   FORMA  IRREGULAR,    QUE  CUBRE  UNA   AMPLIA  SUPERFICIE  DE  TERRENO.     Ej.:   La   capa  de  hielo  antártico   cubre  aproximadamente  12.500.000  km2   y  tiene 4.200 m   de  espesor ;  el manto de Groenlandia cubre aproximadamente 1.700.000 km2  y  tiene 3.000  m  de espesor ;  entre ambos representan  el  95% del área total de los glaciares del mun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USAS  DE  LAS  GLAC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A TEORÍA ADECUADA  SOBRE  LAS  CAUSAS    DE   LAS GLACIACIONES  DEBERÍA  EXPLICAR:                                                         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) los  avances   repetidos  de los  hielos  durante la última   edad  glacial,   separados  por  períodos  interglaciales  de climas  cálidos                                                           b) las  glaciaciones   episódicas   (700  Ma;  200-300  Ma;  20 Ma):   Se  trata   de eventos  inusuales   en  la historia de la Tierra,  que  casi  siempre  tuvo  climas  mas  benignos  que el actual,  con  temperaturas  promedio de 22°  C   (hoy  sólo  tiene  14° C),  y   no  de  ciclos  regulares                                                                                                       c) una temperatura  global  media  menor  en   5° C  que la   actual, y  posiblemente un aumento  en las  tasas de   precipitaciones  globales,  mayores que   las 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ASTRONÓ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 LA  ÓRBITA TERRESTRE     (CICLO  CADA 105.000 AÑOS); TRAYECTORIA  ELÍPTICA  CON  CAMBIO  EN  SU  EXCENTRICIDAD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LA  INCLINACIÓN   DEL  EJE  DE  LA TIERRA,   ENTRE        22,1°   y     24,5°   (CICLO  CADA 41.000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VIMIENTO  DE  PRECESIÓN  DEL  EJE  DE LA TIERRA   CON   VARIACIÓN  ANUAL   DE   50´´ DEL ARCO   (CICLO  CADA  25.800 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ICLO   CLIMÁTICO  DE  MILANKOVITCH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A  PARTIR  DE   ESTOS  CAMBIOS PERIÓDICOS,   ADEMÁS  DE OTROS  FACTORES,  COMO   CAMBIOS EN LA ENERGÍA  SOLAR,  LO   LLEVARON A ESTIMAR   QUE  CADA  40.000 AÑOS   LA TIERRA  ES MAS FRÍA   ( COMPROBADO CON TESTIGOS OCEÁNICO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6383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NCLUCIÓN:   DEBEN  DARSE  CONDICIONES   MUY  PECULIARES, POR  LA  COMBINACIÓN   DE  DIVERSOS   Y   VARIADOS   FACTORES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,   PARA  QUE  OCURRAN   LAS    GLACI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-36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TMOSFÉ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ARIACIONES  EN   EL    C O 2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alto contenido de C,   mas  cálido)                 ¿ CAUSA  o  EFECT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LVO EN  LA   ATMÓSFERA    (VOLCANES Y METEORI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 TECT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SICIÓN DE   LOS CONTINENTES    ( NORTE  Y  SUD  AMMÉRICA  DERIVAN    HACIA  EL   OESTE    DESDE   EL   CRETÁC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ERTURA  DEL  OCÉANO  PACÍFICO  Y  CIERRE   DEL  OCÉANO    ATLÁNTICO  Y  ÁR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TÁRTICA  SE PONE EN POSICIÓN POLAR  EN  EL EOCE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S  EN  LA CIRCULACIÓN  DE  CORRIENTES  OCEÁNICAS Y ATMOSFÉR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RRIENTE  CIRCUMANTÁRTICA   CUANDO  AUSTRALIA  SE  SEPARA DE LA  ANTÁR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ORMACIÓN DE  GRANDES  CORDILL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ransformación    de   nieve   en   hielo   glac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mperatura bajo 0°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:  AGUA   --   ESTADO   SÓLIDO.   PRECIPITA EN FORMA  DE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RISTALES  HEXAGO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NIEVE   SECA   RECIÓN  CAÍDA  ES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XTREMADAMENTE   POROS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LO  QUE  LA  HACE  LIGERA  COMO  UNA  PL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 GRAN  POROSIDAD Y  FORMA DE  ESTRELLA    DA  A  LA  MASA  UN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UPERFICIE  INTERNA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DE  LOS SEDIMENTOS ORDIN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AIRE  PENETRA  EN  LOS  ORIFICIOS  Y  EL  HIELO  SE   EVAPORA       HASTA   QUEDAR   SÓLO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CIÓN CENTRAL  DEL CRIS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PARTÍCULAS  ESTRELLADAS   CAMBIAN  RÁPIDAMNTE   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ACIMOS  DE CRISTALES  DE  FORMA  ESFÉR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DE  3  mm   O  MENOS DE   DIÁME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DA  LA MASA   ADOPTA,  AL  FINAL  DEL  INVIERNO,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TRUCTURA  GRANUL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MENOS POROSA Y DE  MAYOR  DENSIDAD,   QUE   OBLIGA  AL AIRE  A  ESCAP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ANDO ALCANZA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ENSIDAD   DE  0.8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VUELVE   IMPERMEABLE AL   AIRE Y ENTONCES  SE  LLAMA  HIE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IELO   ES UNA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UES  CONSTA  DE  GRANOS  CRISTALINOS  DE   UN  MINERAL,   ASÍ   COMO  LAS ARENISCAS  DE   CUAR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PARTES  ESENCIALES  DE  UN GLACIAR   SON:   1)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ZONA DE ACUMULACIÓ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CON GRANOS DE HIELO NETOS)   y   2)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ZONA DE ABLACIÓ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DÓNDE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L HIELO  DEJA EL  SISTEMA    POR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U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OR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POR   DESPRENDIMIENTO  DE  BLOQUES DE HIELO  EN  UN CUERPO DE AGUA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lagos  u océano))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La frontera o límite entre  ambas  zonas  es  la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linea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o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nivel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, que es el límite inferior de las nieves perma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HIELO  DEL  GLACIAR  SE  ORIGINA  ENCIMA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NIVEL   DE   NIEVES PERPETUAS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N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DE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ERO  SE  DESPLAZA Y EXTIENDE   HACIA  ABAJO,   FUERA  DE  ELLA,   HACIA  L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SE   MANTIENE  BAJO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  LINEA   DE   NIEV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QUE  SU MOVIMIENT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RANSFIERE   EL  HIELO  DE  LA  PARTE  SUPERIOR   ANTES  QUE  ÉSTE   SE  FUN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ESTA   FORMA,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  LONGITU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EL  VOLUME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EPRESENTAN  UN EQUILIBRIO APROXIMADO   ENTRE  TRES VARIABLES:      1)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ACUMULACIÓN DE NIEV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     2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PÉRDIDAD  POR  FUSIÓN   Y  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y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TRANSFERENCIA   POR EL  MOVI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alance entre la tasa de ingreso  de hielo al sistema,   y   tasa de egreso de hielo del siste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95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GLACIAR  FLUYE,   D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  SU  PROPIO PESO.    EL  FLUJO  ES   PRÍNCIPALMENT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NE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LA VELOCIDAD  DE  DESPLAZAMIENTO  NO  ES IGUAL  EN  TODOS LOS  SECTORES DEL  GLACIAR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DESPLAZAMIENTO  ES MAS RÁPIDO  EN  EL CENTRO   DEL GLACIAR,   DONDE  EL  ESPESOR  DEL  HIELO ES  MAYOR,   Y EN  LA  PARTE  MAS   SUPERFICIAL.        EN   LA PARTE   BASAL  Y  EN  SUS LATERALES   LA  FRICCIÓN  ES  MAYOR  Y   EL  GLACIAR  SE  MUEVE   MAS  LENTAMENT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O   LA  PARTE   MAS  SUPERFICIAL  TIENE   POCO   PESO   SOBRE   SI,   ES QUEBRADIZA Y  CASI  RÍGIDA,   FRACTURÁNDOSE  Y   PRODUCIENDO   EN   EL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ISURAS   Y   GRIETAS   PROFU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LAS  PARTES  PROFUNDAS,   DONDE  EL PESO   DEL GLACIAR  ES MAYOR,  EL  FLUJO  DEFORMA  LOS GRANOS CRISTALINOS  HASTA DARL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 DE  FOLI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MO EL   QUE   SE   APRECIA   EN   LAS  ROCAS METAMÓRFICAS,   POR   LO  CUAL  EL HIELO   DE  UN GLACIAR  PUEDE  SER CLASIFICADO  COMO  UNA ROCA  DE   ESTE  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-74160"/>
            <a:ext cx="77724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MECANISMO  DEL  FLUJO  DEL HIELO   COMPREN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TACIÓN   DE  LOS GR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USIÓN  Y  CONGELA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INTERNOS DENTRO DE LA MASA DE HI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DESPLAZAMIENTO  DEL  GLACIAR  ES   POR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 BAS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A TRAVÉS  DE  LA  ROCA  SOPORTE,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JOS  INTERN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CÁNICAMENTE  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  PARTE  DE   LA ENERGÍA  DEL  GLACIAR  SE   CONSUME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SOBRE SU FON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AREDES   LATER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TAMBIÉN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DEL  FLUJO  INTER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  LA ENERGÍA  REQUERIDA  EN  SU  DESPLAZAMIENTO  Y EN LA  DEFORMACIÓN   DE  LOS GRANOS    DE  HIELO  ES MAYOR  QUE  LA REQUERIDA  PARA  CAUSAR   FLUJO  EN  EL AGU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TÉRMINOS MECÁNICOS,   EL  MOVIMIENTO  DEL GLACIAR  ES UN  PROCESO  MUY  INEFICIENTE.   EN  DETERMINADOS  SECTORES  EL   FLUJO   ES   SOMETIDO 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EXTEN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GENERANDO   GRIETA,   Y  EN OTROS PREVALECEN  LOS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COMPRE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QUE  CIERRAN   LAS FISURAS  PRODUCIDAS  PREVI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BAJO   GEOLÓGICO   DEL   GLAC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HIELO  ES  UN    AGENTE  DE  EROSIÓN  MUY   EFECTIVO,  COMO  TAMBIÉN LO  ES  SU  CAPACIDAD  DE  TRANSPORTE,   CAPAZ  DE  ACARREAR   GRANDES  VOLÚMENES  DE   MATERIAL   PARA    FORMAN   DEPÓSITOS   QUE  SON   MUY  PECULIAR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GENERAL ,   EL  TRABAJO  DEL  HIELO   ES  FÁCIL  DE   RECONOCER   Y  SE    MANIFIESTA   POR   LA   ALTERACIÓN  PRODUCIDA   EN   LA  SUPERFICIE   DEL TERRENO   SOBRE   EL   QUE  PASA  EL  GLACIAR.                                                    UN  ASPECTO  CARACTERÍSTICO  DE   LOS  GLACIARES  DE  VALLE   ES   LA FORMA   DE 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U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CONSERVA   EL  VALLE   DESPUÉS QUE  EL HILEO SE   RETIRA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 oposición  a la forma en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V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de  un  valle  de  origen  fluvi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ROSIÓN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1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BRA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PROCESO  DE  RASPAR  Y  RAYAR    LA ROCA).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L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LAS ROCAS  Y   PRODUCE   LAS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RÍAS  GLACIAR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  LA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ACANALADUR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ESCULPIENDO  LO  QUE   SE    CONOCE    COMO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CAS  ABORREG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ESTOS  RASGOS  SE  USAN  COMO  INDICADORES   DE   LA  DIRECCIÓN  DE AVANCE   QUE   TUVO  EL GLACIAR                                                                                     2)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NQU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DESPRENDIMIENTO  Y  ARRASTRE  DE  BLOQUES  ROCOSOS). PRODUCE    UN     EFECTO   DE   “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pillado ”  o  “ dragado 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  EL  FONDO  DEL  VALLE,    GENERANDO   DEPRESIONES   Y   FORMAS  ESCALONADAS  A   LO LARGO  DEL  VALLE.   EN LAS ZONAS  MAS DEPRIMIDAS,  UNA  VEZ   QUE  EL  HIELO  SE   RETIRA,    SE   FORMAN  PEQUEÑOS  LA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430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NSPORTE:   (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fiere del transporte fluvial)                                                            1)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CARGA  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BRE  SU  CIM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SUS  COSTADOS,  ADEMÁS  DE  HACERLO  EN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USPEN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STR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COMO  CARGA  DE  FONDO.                                                                                         2)   EL   HIELO   NO   SEGREGA  SU   CARGA   POR  SU  TAMAÑO,   Y   EL MATERIAL   TRANSPORTANDO   ES  UNA MEZCLA   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ORMES   BLOQUES  DE 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e cientos de tonel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)   Y   DE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 FRAGMENTOS    PEQUEÑ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CLUSIVE   MEZCLADO   CON  LO QUE  SE   DENOMIN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HARINA DE  ROC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e es la arena  y limo producidas por   trituración y  pulverización  en  el fondo y  costados  del glaci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)  DONDE  SE  JUNTAN  DOS  GLACIARES,   EL  MATERIAL  DE   DETRITOS  TRANSPORTADO  EN  SUS  RESPECTIVOS   BORDES  SE   CONCENTRA   EN   MEDIO  DEL  GLACIAR,   A  LO  LARGO   DE    UNA  NUEVA   BANDA  LINEAL  DE   MATERIAL,  O  “NIEVE   SUCIA”,   QUE   SE  EXTIENDE   A  LO LARGO  DEL  GLACIAR  Y  DESDE   EL FONDO  A  LA   SUPERFICI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1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PÓSITOS  GLACIARES :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)   EL  HIELO  NO  SEGREGA  NI   DEPOSITA  EL  MATERIAL  TRANSPORTADO  SEGÚN   SU  PESO.                                                                                                           TODO  EL    MATERIAL  ES  DEPOSITADO   A   UN  TIEMPO,     CUANDO  EL   HIELO  QUE  LO  TRANSPORTA   DEJA  EL 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2)   LOS DEPÓSITOS  DE   MATERIAL  TRANSPORTADO  POR  EL GLACIAR  SE   DENOMINAN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N  DEPÓSITOS  NO ESTRATIFICADOS  NI   CLASIFICADO  DE  ACUERDO  CON  SU  TAMAÑ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SE  LES  CONOCE   COM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MIN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 con  forma de arco,   formados en el frente  del glaciar ,  cuando  el  hielo  deja el sistema;  los  materiales  de  detritos  se  elevan  desde  el  fondo  por  el  flujo  emergente  del  hielo  en  el  frente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DE  RECE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igual que las terminales,  pero formadas  por  retrocesos  progresivos  del  frente);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 LATER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a lo largo   de los  costados  del glaciar,  bajo  la  cota  de  la linea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CENTRALES   O  DEL  MED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por  las  bandas  lineales  de  “nieve  sucia”,  formadas  por dos  tributarios ,  y  que  se  extienden  por  el centro  del  glaciar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V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  FORMACIÓN  GLACILACUSTRE,    ARCILLOSA,    FINAMENTE   ESTRATIFICADA  Y  CLASIFICADA,  DEPOSITADA  EN  LOS  LAGOS  QUE  SE  FORMAN  EN  EL   FRENTE   DEL   GLACIAR,   POR  LA  FUSIÓN  DEL HIELO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stratos  muy  finos  y  delgados,  alternando  tonos   claros   y oscuros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4) OTRAS  FORMAS  DE   DEPÓSITOS  SON  LO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KER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RUMLIN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L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VIOGLA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DEPOSITADOS  AGUAS ABAJO DEL FRENTE  DEL GLAC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DELADO   DE   LA   MONTAÑA POR  LOS  GLACIARES  DE VAL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IR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PECIE   DE   NICHO,  DE  PAREDES  ABRUPTAS,  CON FORMA  DE   ANFITEATRO,    EXCAVADO  EN  LA  LADERA   DE   LA MONTAÑA.  DA  LUGAR   A  LA  FORMACIÓN  DE  LAGOS PEQUEÑOS   UNA  VEZ  QUE   EL   HIELO  SE  FU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ARISTA  O  CREST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PAREDÓN  AFILADO,  A  MANERA DE TABIQUE,  CREADO  POR  DOS  O TRES CIRCOS   ADYAC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TEZU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DESFILADERO  O  PUNTO  MAS  BAJO   DE   UNA  ARISTA  FORMADA  POR   DOS CIRCOS 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ICO  O  PICACH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TRUCTURA  DE    FORMA  PIRAMIDAL  QUE QUEDA  EN PIE  CUANDO  TRES  O  MAS CIRCOS   SE   ACERCAN ENTRE  SI  POR  SU  LADO   DORSAL,   POR    EFECTO   DE   LA  EROSIÓN  RETRÓGRADA DE SUS RESPECTIVAS PARE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IOR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VALLES  O   DEPRESIONES  GLACIARES   PARCIALMENTE SUMERGIDA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forman bahías profund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ALLE   COLG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OMBR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LANICIES  FLUVIOGLA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21:14:56Z</dcterms:created>
  <dc:creator>Universidad de Chile</dc:creator>
  <dc:description/>
  <dc:language>en-US</dc:language>
  <cp:lastModifiedBy>Universidad de Chile</cp:lastModifiedBy>
  <cp:lastPrinted>2001-05-18T22:04:36Z</cp:lastPrinted>
  <dcterms:modified xsi:type="dcterms:W3CDTF">2001-05-29T01:35:14Z</dcterms:modified>
  <cp:revision>24</cp:revision>
  <dc:subject/>
  <dc:title>SISTEMA    DE    GLACIARES</dc:title>
</cp:coreProperties>
</file>